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93B-079C-4399-9B88-A856BE5B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78E-C7B0-4110-840D-AA331503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BE6-40BF-4341-97D4-F70EF051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7A3-1BB3-4F6C-B2F3-0AC9D589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CEF-5027-49A4-A1A8-4EAA0F34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50A-5857-4D64-A560-58C0DD4E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463-C303-4736-A826-401DD29A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D2C-D962-46B3-9B6A-E160E3CE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120-9741-4E35-9F6E-88E0E59D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F4F-8F75-4E68-915E-2F5D04CF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672-1251-40CD-901D-EF1CC2D7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16C-1ACF-4AC6-A95F-D6E5B921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855A-C479-4407-BB09-B04DEF471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cademy Engraved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cademy Engraved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cademy Engraved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cademy Engraved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ise the price and many people couldn’t afford it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Academy Engraved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KUNG</cp:lastModifiedBy>
  <dcterms:modified xsi:type="dcterms:W3CDTF">2010-12-14T21:55:39Z</dcterms:modified>
  <cp:revision>11</cp:revision>
  <dc:subject/>
  <dc:title>Present Day Russia</dc:title>
</cp:coreProperties>
</file>